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A8F1-23A9-460E-891E-B469C01AC71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Тема 8. Философия Новейшего времени и соврем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и основные направления философ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философии сов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8614-23D7-4487-94DA-C22A9FABDE4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Ясперсу, человек обычно живет «заброшенной» жизнью, но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граничных ситуац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крытые качества выходят наружу. Он осознает себя через «шифры» трансцендент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изнь человека – абсурд», - считает Камю. Смысл жизни в самом существовани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C703-8078-47EA-9F7F-43B18FC49B7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Мартина Хайдеггера (1889-19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ое быт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ei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сегда эмоционально. Переживание «бытия-к-смерти» приводят к страху и трев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– это «дом бытия» и именно язык определяет судьбу 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4427-D224-401F-A240-3EB9FDE974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рменевтика (от греч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Germeneutikos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человеком мира осуществляется в языке и через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0884-D91E-4F5D-8E28-F5FEBBFC69A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BF29-F9AE-42ED-8FE4-1EE29B892E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тран Р. История западной философии. 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дамер Х.Г. Истина и метод. М.: Прогресс, 1988. 69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. Поток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льтей В. Сущность философии. М.: Интрада, 2001. 15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В.П. Как концепция «духа времени» конца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ю А. Абсурдное расс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напп Р., О.Нейрат. Научное миро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цше Ф. Так говорил Заратустра. Соч. в 2-х т. Т.2. С.5-1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тр Ж.П. Экзистенциализм – это гум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Время и бы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Письмо о гум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йд З. Введение в психоанализ: Лекции. М.: Наука, 1989. 456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пенгауэр А. Афор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05F9-9BC4-49FC-A4B7-18E9D15E67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Западная философия второй половины 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юрализм в философском мыш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двух противоположных школ: сциентизм и антисциент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ерантность современной философ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зм и гуманизм, т.е. направленность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E64D-B56D-4BC4-8FC3-3BED21FE95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Основные направления философии </a:t>
            </a:r>
            <a:br>
              <a:rPr sz="1600"/>
            </a:b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: К.Маркс, Ф.Энгель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: А. Шопенгауэр, Ф.Ницше, В.Диль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: позитивизм О.Конта; эмпириокритицизм; неопозитивизм; постпозитив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прагматизм: Дж.Дьюи, Ч.Пи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анализ: З.Фрейд, Э.Фромм, К.Г.Юнг, Адл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ка: Ф.Шлегель, Ф.Шлейермахер, Г.Гадамер, П.Рик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омизм: Э.Жильсон, Ж.Маритен, К.Войтыл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модернизм: Ж.Ф.Лиотар, Ж.Деррида, Ж.Бодрийар, Р.Рорти, Ж.Делез, Ф.Гватта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425F-4D80-4DEB-876C-EDCDEF93A3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Основателями философии марксизма стали Карл Маркс (1818-1883) и </a:t>
            </a:r>
            <a:br>
              <a:rPr sz="1800"/>
            </a:b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Фридрих Энгельс (1820-1895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Маркс разработал теорию об общественно-экономических форм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4CDF-B4D4-4BC7-A6F6-59FC0A74E70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Иррационализм Артура Шопенгауэра (1788-186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труд: «Мир как воля и представл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овал Гегеля за его диалектику и историзм, призывал вернуться к Ка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есть лишь мир представлений в созна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явлений и мир сущности являются соответственно миром представлений и миром в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нии о человеке заложил  основы пессим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CAFE-8C43-4052-81C3-865468A544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Философия жизни Фридриха Ницше (1844-19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ак говорил Заратустра», «По сторону добра и зла» ; «Весел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я «воля к жизни», «воля к власт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39BE-0705-450F-A8CE-B4A6EA1032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6CAF-4A7B-45B4-8576-724F58302F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сихоанализ Зигмунда Фрейда </a:t>
            </a:r>
            <a:br>
              <a:rPr sz="1400"/>
            </a:b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ил огромную роль бессознательного в поведе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ультура есть результат субли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37DF-3D6E-4FF8-BB79-E41D136CD8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FCC-46E8-4B3E-9495-F1E7C25A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1FD-44E9-4E37-BBE7-10F0DE68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D14-0C7F-4069-AEE6-426417B4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D86-B65F-48D0-A60C-EE5ABB4F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166-F744-4DE6-A73A-2BC4CE87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D0B-13E3-4A4D-9B4E-224C7B10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DF3-5BA0-4164-90A3-AE380216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089-9CFA-4CC0-BF69-CFA70F76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43F-13E9-47AF-8FEC-911A698C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C71-B21F-4C93-8D52-0E671E8A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67E-0589-4CEA-A71E-5A5574C5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3B8-0C28-45D8-9EC4-BACCFC8C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A465-25BD-4D23-A797-07221B5C02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7;&#1077;&#1088;&#1074;&#1086;&#1080;&#1089;&#1090;&#1086;&#1095;&#1085;&#1080;&#1082;&#1080;/&#1056;&#1040;&#1057;&#1057;&#1045;&#1051;.%20&#1060;&#1080;&#1083;&#1086;&#1089;&#1086;&#1092;&#1080;&#1103;.doc" TargetMode="External"/><Relationship Id="rId2" Type="http://schemas.openxmlformats.org/officeDocument/2006/relationships/hyperlink" Target="file:///&#1087;&#1077;&#1088;&#1074;&#1086;&#1080;&#1089;&#1090;&#1086;&#1095;&#1085;&#1080;&#1082;&#1080;/&#1044;&#1078;&#1077;&#1081;&#1084;&#1089;.doc" TargetMode="External"/><Relationship Id="rId3" Type="http://schemas.openxmlformats.org/officeDocument/2006/relationships/hyperlink" Target="file:///&#1087;&#1077;&#1088;&#1074;&#1086;&#1080;&#1089;&#1090;&#1086;&#1095;&#1085;&#1080;&#1082;&#1080;/&#1048;&#1083;&#1100;&#1080;&#1085;.%20&#1055;&#1086;&#1089;&#1090;&#1084;&#1086;&#1076;&#1077;&#1088;&#1085;&#1080;&#1079;&#1084;.doc" TargetMode="External"/><Relationship Id="rId4" Type="http://schemas.openxmlformats.org/officeDocument/2006/relationships/hyperlink" Target="file:///&#1087;&#1077;&#1088;&#1074;&#1086;&#1080;&#1089;&#1090;&#1086;&#1095;&#1085;&#1080;&#1082;&#1080;/&#1050;&#1072;&#1084;&#1102;.doc" TargetMode="External"/><Relationship Id="rId5" Type="http://schemas.openxmlformats.org/officeDocument/2006/relationships/hyperlink" Target="file:///&#1087;&#1077;&#1088;&#1074;&#1086;&#1080;&#1089;&#1090;&#1086;&#1095;&#1085;&#1080;&#1082;&#1080;/&#1050;&#1040;&#1056;&#1053;&#1040;&#1055;&#1055;%20&#1056;&#1091;&#1076;&#1086;&#1083;&#1100;&#1092;.doc" TargetMode="External"/><Relationship Id="rId6" Type="http://schemas.openxmlformats.org/officeDocument/2006/relationships/hyperlink" Target="file:///&#1087;&#1077;&#1088;&#1074;&#1086;&#1080;&#1089;&#1090;&#1086;&#1095;&#1085;&#1080;&#1082;&#1080;/&#1055;&#1054;&#1055;&#1055;&#1045;&#1056;%20&#1050;&#1072;&#1088;&#1083;.doc" TargetMode="External"/><Relationship Id="rId7" Type="http://schemas.openxmlformats.org/officeDocument/2006/relationships/hyperlink" Target="file:///&#1087;&#1077;&#1088;&#1074;&#1086;&#1080;&#1089;&#1090;&#1086;&#1095;&#1085;&#1080;&#1082;&#1080;/&#1057;&#1040;&#1056;&#1058;&#1056;.doc" TargetMode="External"/><Relationship Id="rId8" Type="http://schemas.openxmlformats.org/officeDocument/2006/relationships/hyperlink" Target="file:///&#1087;&#1077;&#1088;&#1074;&#1086;&#1080;&#1089;&#1090;&#1086;&#1095;&#1085;&#1080;&#1082;&#1080;/&#1061;&#1040;&#1049;&#1044;&#1045;&#1043;&#1043;&#1045;&#1056;.%20&#1042;&#1088;&#1077;&#1084;&#1103;%20&#1080;%20&#1073;&#1099;&#1090;&#1080;&#1077;.doc" TargetMode="External"/><Relationship Id="rId9" Type="http://schemas.openxmlformats.org/officeDocument/2006/relationships/hyperlink" Target="file:///&#1087;&#1077;&#1088;&#1074;&#1086;&#1080;&#1089;&#1090;&#1086;&#1095;&#1085;&#1080;&#1082;&#1080;/&#1061;&#1040;&#1049;&#1044;&#1045;&#1043;&#1043;&#1045;&#1056;.%20&#1055;&#1080;&#1089;&#1100;&#1084;&#1086;%20&#1086;%20&#1075;&#1091;&#1084;&#1072;&#1085;&#1080;&#1079;&#1084;&#1077;.doc" TargetMode="External"/><Relationship Id="rId10" Type="http://schemas.openxmlformats.org/officeDocument/2006/relationships/hyperlink" Target="file:///&#1087;&#1077;&#1088;&#1074;&#1086;&#1080;&#1089;&#1090;&#1086;&#1095;&#1085;&#1080;&#1082;&#1080;/&#1064;&#1054;&#1055;&#1045;&#1053;&#1043;&#1040;&#1059;&#1069;&#1056;.%20&#1040;&#1092;&#1086;&#1088;&#1080;&#1079;&#1084;&#1099;.doc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Тема 8. Философия Новейшего времени и сов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и основные направления философи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ксистская филосо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лософия на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направления философии соврем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Ясперсу, человек обычно живет «заброшенной» жизнью, но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граничных ситуац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крытые качества выходят наружу. Он осознает себя через «шифры» трансцендентально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Жизнь человека – абсурд», - считает Камю. Смысл жизни в самом существовани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Экзистенциализм Мартина Хайдеггера (1889-197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1905120"/>
            <a:ext cx="548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ческое бытие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se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сегда эмоционально. Переживание «бытия-к-смерти» приводят к страху и тревог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 – это «дом бытия» и именно язык определяет судьбу бы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F:\изображения философов.files\image064.jpg"/>
          <p:cNvPicPr/>
          <p:nvPr/>
        </p:nvPicPr>
        <p:blipFill>
          <a:blip r:embed="rId1"/>
          <a:stretch/>
        </p:blipFill>
        <p:spPr>
          <a:xfrm>
            <a:off x="5562720" y="2209680"/>
            <a:ext cx="3352680" cy="3484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Герменевтика (от греч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rmeneutikos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нимание человеком мира осуществляется в языке и через язы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Литератур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ртран Р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История западной философии. Введ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дамер Х.Г. Истина и метод. М.: Прогресс, 1988. 69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жеймс У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Поток созн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льтей В. Сущность философии. М.: Интрада, 2001. 15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ьин В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Как концепция «духа времени» конца ХХ 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ю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Абсурдное рассужд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напп Р., О.Нейрат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Научное миропоним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цше Ф. Так говорил Заратустра. Соч. в 2-х т. Т.2. С.5-1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пер К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Нищета историц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тр Ж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Экзистенциализм – это гума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Время и быт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Письмо о гуманиз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рейд З. Введение в психоанализ: Лекции. М.: Наука, 1989. 456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опенгауэр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Афориз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ападная философия второй половины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ные чер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юрализм в философском мышле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никновение двух противоположных школ: сциентизм и антисциент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ерантность современной философ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ропоцентризм и гуманизм, т.е. направленность к челове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ные направления философии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систская философия: К.Маркс, Ф.Энгель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: А. Шопенгауэр, Ф.Ницше, В.Диль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ософия науки: позитивизм О.Конта; эмпириокритицизм; неопозитивизм; постпозитивиз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ериканский прагматизм: Дж.Дьюи, Ч.Пир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анализ: З.Фрейд, Э.Фромм, К.Г.Юнг, Адл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меневтика: Ф.Шлегель, Ф.Шлейермахер, Г.Гадамер, П.Рик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томизм: Э.Жильсон, Ж.Маритен, К.Войтыла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модернизм: Ж.Ф.Лиотар, Ж.Деррида, Ж.Бодрийар, Р.Рорти, Ж.Делез, Ф.Гватта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ателями философии марксизма стали Карл Маркс (1818-1883) и </a:t>
            </a:r>
            <a:br>
              <a:rPr sz="3200"/>
            </a:b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Фридрих Энгельс (1820-1895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.Маркс разработал теорию об общественно-экономических формац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Иррационализм Артура Шопенгауэра (1788-186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ой труд: «Мир как воля и представлени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тиковал Гегеля за его диалектику и историзм, призывал вернуться к Кан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ружающий мир есть лишь мир представлений в созна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р явлений и мир сущности являются соответственно миром представлений и миром во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учении о человеке заложил  основы пессим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F:\изображения философов.files\image062.jpg"/>
          <p:cNvPicPr/>
          <p:nvPr/>
        </p:nvPicPr>
        <p:blipFill>
          <a:blip r:embed="rId1"/>
          <a:stretch/>
        </p:blipFill>
        <p:spPr>
          <a:xfrm>
            <a:off x="228600" y="1981080"/>
            <a:ext cx="304812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Философия жизни Фридриха Ницше (1844-190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562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ак говорил Заратустра», «По сторону добра и зла» ; «Веселая нау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л понятия «воля к жизни», «воля к власти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F:\изображения философов.files\image061.jpg"/>
          <p:cNvPicPr/>
          <p:nvPr/>
        </p:nvPicPr>
        <p:blipFill>
          <a:blip r:embed="rId1"/>
          <a:stretch/>
        </p:blipFill>
        <p:spPr>
          <a:xfrm>
            <a:off x="6095880" y="1981080"/>
            <a:ext cx="269892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676520"/>
            <a:ext cx="8915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сихоанализ Зигмунда Фрейда 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аружил огромную роль бессознательного в поведе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я культура есть результат субли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F:\изображения философов.files\image073.jpg"/>
          <p:cNvPicPr/>
          <p:nvPr/>
        </p:nvPicPr>
        <p:blipFill>
          <a:blip r:embed="rId1"/>
          <a:stretch/>
        </p:blipFill>
        <p:spPr>
          <a:xfrm>
            <a:off x="228600" y="1981080"/>
            <a:ext cx="312408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5:10:54Z</dcterms:created>
  <dc:creator>Pussicat</dc:creator>
  <dc:description/>
  <dc:language>en-US</dc:language>
  <cp:lastModifiedBy>LEGION</cp:lastModifiedBy>
  <dcterms:modified xsi:type="dcterms:W3CDTF">2014-11-11T07:55:44Z</dcterms:modified>
  <cp:revision>9</cp:revision>
  <dc:subject/>
  <dc:title>Тема 8. Философия Новейшего времени и современности</dc:title>
</cp:coreProperties>
</file>